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148-2540-404F-9D62-6458BBE2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4697-B505-4DD6-B20E-529D58E7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4AB-FBB5-4599-9E48-5C88FAA7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3FBD-9A91-449F-B64E-7491B8C1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274-F539-41AF-B1DE-ECCEF41A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D41D-074A-4788-B1A6-E082E099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F37-1D4D-4DC9-9692-876F2BF1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2BF-FD34-4CC4-8237-7E1064B6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456A-ED48-45B8-A173-725DD095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2C2-1705-4E77-9C53-6274B0A0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0152-5F3C-4F2A-8883-07E7D915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732-FE00-43DC-B49F-000D0E3E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3E2E-DD9E-44A6-A475-4C5AAD2A2E16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esultado de imagen de proaire logotipo&quot;"/>
          <p:cNvPicPr/>
          <p:nvPr/>
        </p:nvPicPr>
        <p:blipFill>
          <a:blip r:embed="rId1"/>
          <a:stretch/>
        </p:blipFill>
        <p:spPr>
          <a:xfrm>
            <a:off x="900000" y="0"/>
            <a:ext cx="6840720" cy="5502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Segunda Reunión del Comité Núcle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42920" y="5660640"/>
            <a:ext cx="42087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21/noviembre/20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n 7" descr=""/>
          <p:cNvPicPr/>
          <p:nvPr/>
        </p:nvPicPr>
        <p:blipFill>
          <a:blip r:embed="rId2"/>
          <a:stretch/>
        </p:blipFill>
        <p:spPr>
          <a:xfrm>
            <a:off x="0" y="5445000"/>
            <a:ext cx="3127320" cy="1413000"/>
          </a:xfrm>
          <a:prstGeom prst="rect">
            <a:avLst/>
          </a:prstGeom>
          <a:ln w="0">
            <a:noFill/>
          </a:ln>
        </p:spPr>
      </p:pic>
      <p:pic>
        <p:nvPicPr>
          <p:cNvPr id="45" name="28 Imagen" descr="SEMARNAT_logo_2012.png"/>
          <p:cNvPicPr/>
          <p:nvPr/>
        </p:nvPicPr>
        <p:blipFill>
          <a:blip r:embed="rId3"/>
          <a:stretch/>
        </p:blipFill>
        <p:spPr>
          <a:xfrm>
            <a:off x="6012000" y="189000"/>
            <a:ext cx="284292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20872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848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16:43:54Z</dcterms:created>
  <dc:creator>Impacto</dc:creator>
  <dc:description/>
  <dc:language>en-US</dc:language>
  <cp:lastModifiedBy>Impacto</cp:lastModifiedBy>
  <dcterms:modified xsi:type="dcterms:W3CDTF">2020-10-13T17:30:48Z</dcterms:modified>
  <cp:revision>2</cp:revision>
  <dc:subject/>
  <dc:title>Segunda Reunión del Comité Núcleo.</dc:title>
</cp:coreProperties>
</file>